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F8B3-FA50-4CC7-9C8D-AFE9BB91F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0D2F-CAB2-4FCE-BDF5-A5C8758E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2FCB-A766-4EBC-9B01-E6AAB674E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4AA6-CF26-4946-8869-B8F6E3498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BA02-CE29-4CF4-9186-61040AC0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02C0-DAB8-4667-B92B-33F2A0C6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9B47-C84E-4280-A3FC-3774E829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865E-AD88-4DEA-AC5F-95308EAC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001A-97CF-41F4-ABA9-CCCFFF06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6605-D790-4BA3-BC07-9D71E3DC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3C36-E95F-437E-AFAC-C8B06915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1FC4-9203-4F03-A7E6-22A819F8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https://publicaffairs.llnl.gov/news/news_releases/2008/images/explosives_molecules_big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CC20-EF2E-4741-9A93-0C7FB12E25E6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ther-(general).p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Sodium_ethoxide.png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en.wikipedia.org/wiki/File:Chloroethane-skeletal.png" TargetMode="External"/><Relationship Id="rId4" Type="http://schemas.openxmlformats.org/officeDocument/2006/relationships/image" Target="../media/image4.png"/><Relationship Id="rId5" Type="http://schemas.openxmlformats.org/officeDocument/2006/relationships/hyperlink" Target="http://en.wikipedia.org/wiki/File:Sodium_ethoxide.png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en.wikipedia.org/wiki/File:Ethanol-2D-skeletal.svg" TargetMode="External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46c0a"/>
                </a:solidFill>
                <a:latin typeface="Calibri"/>
              </a:rPr>
              <a:t>Eth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46c0a"/>
                </a:solidFill>
                <a:latin typeface="Calibri"/>
              </a:rPr>
              <a:t>Carl Robinson and Michael R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Calibri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http://www.elmhurst.edu/~chm/vchembook/images/522diethylether.GIF (Pictur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http://www.wikipedia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(Pictur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http://www.tutorvista.com/chemistry/uses-of-e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Hornblack, Joseph M. “Organic Chemisty” Brooks &amp; Cole 1998 Pg. 52, 354, 35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23640" y="274680"/>
            <a:ext cx="4824360" cy="12254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 u="sng">
                <a:solidFill>
                  <a:srgbClr val="ffff00"/>
                </a:solidFill>
                <a:uFillTx/>
                <a:latin typeface="Calibri"/>
              </a:rPr>
              <a:t>Standard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upload.wikimedia.org/wikipedia/commons/thumb/5/51/Ether-%28general%29.png/150px-Ether-%28general%29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71800" y="2000160"/>
            <a:ext cx="4857480" cy="242892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2587320" y="4997520"/>
            <a:ext cx="4004280" cy="6426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00"/>
                </a:solidFill>
                <a:latin typeface="Calibri"/>
              </a:rPr>
              <a:t>R – Alkyl Group</a:t>
            </a:r>
            <a:br>
              <a:rPr sz="1800"/>
            </a:br>
            <a:r>
              <a:rPr b="0" lang="en-CA" sz="1800" spc="-1" strike="noStrike">
                <a:solidFill>
                  <a:srgbClr val="ffff00"/>
                </a:solidFill>
                <a:latin typeface="Calibri"/>
              </a:rPr>
              <a:t>_’ – Substituent (substituted alkyl group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 u="sng">
                <a:solidFill>
                  <a:srgbClr val="ffff00"/>
                </a:solidFill>
                <a:uFillTx/>
                <a:latin typeface="Calibri"/>
              </a:rPr>
              <a:t>Nam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alibri"/>
              </a:rPr>
              <a:t>__  ______ E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alibri"/>
              </a:rPr>
              <a:t>1</a:t>
            </a:r>
            <a:r>
              <a:rPr b="0" lang="en-CA" sz="3200" spc="-1" strike="noStrike" baseline="30000">
                <a:solidFill>
                  <a:srgbClr val="ffff00"/>
                </a:solidFill>
                <a:latin typeface="Calibri"/>
              </a:rPr>
              <a:t>st</a:t>
            </a:r>
            <a:r>
              <a:rPr b="0" lang="en-CA" sz="3200" spc="-1" strike="noStrike">
                <a:solidFill>
                  <a:srgbClr val="ffff00"/>
                </a:solidFill>
                <a:latin typeface="Calibri"/>
              </a:rPr>
              <a:t> is either the prefix of “Di-” or is the first alkyl group within the compound in alphabetical ord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alibri"/>
              </a:rPr>
              <a:t>2</a:t>
            </a:r>
            <a:r>
              <a:rPr b="0" lang="en-CA" sz="3200" spc="-1" strike="noStrike" baseline="30000">
                <a:solidFill>
                  <a:srgbClr val="ffff00"/>
                </a:solidFill>
                <a:latin typeface="Calibri"/>
              </a:rPr>
              <a:t>nd</a:t>
            </a:r>
            <a:r>
              <a:rPr b="0" lang="en-CA" sz="3200" spc="-1" strike="noStrike">
                <a:solidFill>
                  <a:srgbClr val="ffff00"/>
                </a:solidFill>
                <a:latin typeface="Calibri"/>
              </a:rPr>
              <a:t> is followed by the main alkyl group or the second alkyl group within alphabetical ord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alibri"/>
              </a:rPr>
              <a:t>All end with the word e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http://upload.wikimedia.org/wikipedia/commons/thumb/4/4a/Sodium_ethoxide.png/200px-Sodium_ethoxide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67120" y="1857240"/>
            <a:ext cx="1778040" cy="569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upload.wikimedia.org/wikipedia/commons/thumb/a/ac/Chloroethane-skeletal.png/100px-Chloroethane-skeletal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5840" y="4214880"/>
            <a:ext cx="1409760" cy="500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://upload.wikimedia.org/wikipedia/commons/thumb/4/4a/Sodium_ethoxide.png/200px-Sodium_ethoxide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357280" y="4214880"/>
            <a:ext cx="1779840" cy="498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http://upload.wikimedia.org/wikipedia/commons/thumb/8/82/Ethanol-2D-skeletal.svg/100px-Ethanol-2D-skeletal.svg.pn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87280" y="1857240"/>
            <a:ext cx="1704960" cy="576360"/>
          </a:xfrm>
          <a:prstGeom prst="rect">
            <a:avLst/>
          </a:prstGeom>
          <a:ln w="0">
            <a:noFill/>
          </a:ln>
        </p:spPr>
      </p:pic>
      <p:sp>
        <p:nvSpPr>
          <p:cNvPr id="54" name="TextBox 24"/>
          <p:cNvSpPr/>
          <p:nvPr/>
        </p:nvSpPr>
        <p:spPr>
          <a:xfrm>
            <a:off x="2079360" y="1857240"/>
            <a:ext cx="9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+ 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5"/>
          <p:cNvSpPr/>
          <p:nvPr/>
        </p:nvSpPr>
        <p:spPr>
          <a:xfrm>
            <a:off x="6438240" y="1857240"/>
            <a:ext cx="105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—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6"/>
          <p:cNvSpPr/>
          <p:nvPr/>
        </p:nvSpPr>
        <p:spPr>
          <a:xfrm>
            <a:off x="3144960" y="185724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7"/>
          <p:cNvSpPr/>
          <p:nvPr/>
        </p:nvSpPr>
        <p:spPr>
          <a:xfrm>
            <a:off x="1857240" y="4191120"/>
            <a:ext cx="3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8"/>
          <p:cNvSpPr/>
          <p:nvPr/>
        </p:nvSpPr>
        <p:spPr>
          <a:xfrm>
            <a:off x="4357800" y="421488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0" descr="http://upload.wikimedia.org/wikipedia/commons/thumb/2/26/Diethyl-ether-2D-skeletal.png/200px-Diethyl-ether-2D-skeletal.png"/>
          <p:cNvPicPr/>
          <p:nvPr/>
        </p:nvPicPr>
        <p:blipFill>
          <a:blip r:embed="rId9"/>
          <a:stretch/>
        </p:blipFill>
        <p:spPr>
          <a:xfrm>
            <a:off x="6881760" y="4233960"/>
            <a:ext cx="1905120" cy="552240"/>
          </a:xfrm>
          <a:prstGeom prst="rect">
            <a:avLst/>
          </a:prstGeom>
          <a:ln w="0">
            <a:noFill/>
          </a:ln>
        </p:spPr>
      </p:pic>
      <p:sp>
        <p:nvSpPr>
          <p:cNvPr id="60" name="TextBox 31"/>
          <p:cNvSpPr/>
          <p:nvPr/>
        </p:nvSpPr>
        <p:spPr>
          <a:xfrm>
            <a:off x="6289920" y="4202280"/>
            <a:ext cx="3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2"/>
          <p:cNvSpPr/>
          <p:nvPr/>
        </p:nvSpPr>
        <p:spPr>
          <a:xfrm>
            <a:off x="290880" y="264312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Ethanol (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33"/>
          <p:cNvSpPr/>
          <p:nvPr/>
        </p:nvSpPr>
        <p:spPr>
          <a:xfrm>
            <a:off x="2014560" y="2643120"/>
            <a:ext cx="10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Sodium (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4"/>
          <p:cNvSpPr/>
          <p:nvPr/>
        </p:nvSpPr>
        <p:spPr>
          <a:xfrm>
            <a:off x="3816360" y="2643120"/>
            <a:ext cx="181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Sodium Ethoxide (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5"/>
          <p:cNvSpPr/>
          <p:nvPr/>
        </p:nvSpPr>
        <p:spPr>
          <a:xfrm>
            <a:off x="6220080" y="2662200"/>
            <a:ext cx="156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Hydrogen gas (g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6"/>
          <p:cNvSpPr/>
          <p:nvPr/>
        </p:nvSpPr>
        <p:spPr>
          <a:xfrm>
            <a:off x="294840" y="5286240"/>
            <a:ext cx="157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Chloroethane (g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37"/>
          <p:cNvSpPr/>
          <p:nvPr/>
        </p:nvSpPr>
        <p:spPr>
          <a:xfrm>
            <a:off x="2316240" y="5286240"/>
            <a:ext cx="181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Sodium Ethoxide (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8"/>
          <p:cNvSpPr/>
          <p:nvPr/>
        </p:nvSpPr>
        <p:spPr>
          <a:xfrm>
            <a:off x="5121360" y="4214880"/>
            <a:ext cx="8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NaC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39"/>
          <p:cNvSpPr/>
          <p:nvPr/>
        </p:nvSpPr>
        <p:spPr>
          <a:xfrm>
            <a:off x="4654800" y="528624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Sodium Chloride (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40"/>
          <p:cNvSpPr/>
          <p:nvPr/>
        </p:nvSpPr>
        <p:spPr>
          <a:xfrm>
            <a:off x="7164360" y="5286240"/>
            <a:ext cx="147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Diethyl Ether (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46"/>
          <p:cNvSpPr/>
          <p:nvPr/>
        </p:nvSpPr>
        <p:spPr>
          <a:xfrm>
            <a:off x="5862960" y="1857240"/>
            <a:ext cx="3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49"/>
          <p:cNvSpPr/>
          <p:nvPr/>
        </p:nvSpPr>
        <p:spPr>
          <a:xfrm>
            <a:off x="1857240" y="714240"/>
            <a:ext cx="46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illiamson Ether 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50"/>
          <p:cNvSpPr/>
          <p:nvPr/>
        </p:nvSpPr>
        <p:spPr>
          <a:xfrm>
            <a:off x="307080" y="3643200"/>
            <a:ext cx="477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Note: This is occurs according to the SN2 rea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Calibri"/>
              </a:rPr>
              <a:t>SN2 re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ShockwaveFlash1"/>
          <p:cNvGraphicFramePr/>
          <p:nvPr/>
        </p:nvGraphicFramePr>
        <p:xfrm>
          <a:off x="2484360" y="2060640"/>
          <a:ext cx="4319640" cy="38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060640"/>
                    <a:ext cx="4319640" cy="3889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Calibri"/>
              </a:rPr>
              <a:t>Williamson Ether Synthesis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alibri"/>
              </a:rPr>
              <a:t>Alkyl Halide- Halogen bonded to an alkyl gro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alibri"/>
              </a:rPr>
              <a:t>Nucleophile-a compound which donates a pair of electr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alibri"/>
              </a:rPr>
              <a:t>The nucleophile (lewis base) reacts which an alkyl halid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alibri"/>
              </a:rPr>
              <a:t>After the reaction the products are a salt and an e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3a1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Diethyleth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http://www.elmhurst.edu/~chm/vchembook/images/522diethylether.GIF"/>
          <p:cNvPicPr/>
          <p:nvPr/>
        </p:nvPicPr>
        <p:blipFill>
          <a:blip r:embed="rId1"/>
          <a:stretch/>
        </p:blipFill>
        <p:spPr>
          <a:xfrm>
            <a:off x="2714760" y="1785960"/>
            <a:ext cx="3714480" cy="3900600"/>
          </a:xfrm>
          <a:prstGeom prst="rect">
            <a:avLst/>
          </a:prstGeom>
          <a:ln w="0">
            <a:noFill/>
          </a:ln>
        </p:spPr>
      </p:pic>
      <p:sp>
        <p:nvSpPr>
          <p:cNvPr id="80" name="TextBox 9"/>
          <p:cNvSpPr/>
          <p:nvPr/>
        </p:nvSpPr>
        <p:spPr>
          <a:xfrm>
            <a:off x="3510720" y="2428920"/>
            <a:ext cx="23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Used as an anaesthes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3929040" y="1990800"/>
            <a:ext cx="1614600" cy="438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3"/>
          <a:stretch/>
        </p:blipFill>
        <p:spPr>
          <a:xfrm>
            <a:off x="4786200" y="5286240"/>
            <a:ext cx="161460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Calibri"/>
              </a:rPr>
              <a:t>Nitrous Ox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www.webelements.com/_media/compounds/N/N2O1-10024972.jpg"/>
          <p:cNvPicPr/>
          <p:nvPr/>
        </p:nvPicPr>
        <p:blipFill>
          <a:blip r:embed="rId1"/>
          <a:stretch/>
        </p:blipFill>
        <p:spPr>
          <a:xfrm>
            <a:off x="2357280" y="2071800"/>
            <a:ext cx="4071960" cy="305424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678600" y="5715000"/>
            <a:ext cx="7375680" cy="6426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00"/>
                </a:solidFill>
                <a:latin typeface="Calibri"/>
              </a:rPr>
              <a:t>Otherwise known as laughing gas this compound is used as an anaesthesia i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00"/>
                </a:solidFill>
                <a:latin typeface="Calibri"/>
              </a:rPr>
              <a:t>many medical field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5072040" y="2143080"/>
            <a:ext cx="128592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Calibri"/>
              </a:rPr>
              <a:t>Other u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alibri"/>
              </a:rPr>
              <a:t>Anaesthe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alibri"/>
              </a:rPr>
              <a:t>Refriger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alibri"/>
              </a:rPr>
              <a:t>Solv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alibri"/>
              </a:rPr>
              <a:t>Engine star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9:47:07Z</dcterms:created>
  <dc:creator>DRoss</dc:creator>
  <dc:description/>
  <dc:language>en-US</dc:language>
  <cp:lastModifiedBy>Administrator</cp:lastModifiedBy>
  <dcterms:modified xsi:type="dcterms:W3CDTF">2010-09-27T18:55:24Z</dcterms:modified>
  <cp:revision>22</cp:revision>
  <dc:subject/>
  <dc:title>Slide 1</dc:title>
</cp:coreProperties>
</file>